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2768-49B5-4C5A-B992-509D486FB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4787-92C7-4B18-9C36-E88C62516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D3F4-FC77-47B1-B816-510DBA05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1206-88C9-4780-AFF1-E965847E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D830-2267-43EB-8E1A-7B1CAEF0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B15F-AC45-46CE-9A7C-5C2EBE846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14ED-EC97-4290-83F4-4D2D3A7D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10C4-5A66-49DA-AE0A-657A8D00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D739-0239-4B42-AF04-ED81B481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EBED-E6CA-4D76-ABCB-EDE1272C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6CD0-535A-484E-AC15-5D61E09E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007D-5B31-4CE9-81C2-8CE0C312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7804-4F7F-4761-B926-5251E7C7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079F-0D0A-42B7-9AE0-0CDB7FC4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C979-A7EB-42C4-81BA-C350082BB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iara Zapa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Kiara Zapan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204840" y="44578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71360" y="519444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76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Kiara. Yo vivo en NYC. Yo soy catorce años. Tengo tres hermanas. Estoy buena y feliz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71360" y="4761000"/>
            <a:ext cx="517680" cy="749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41320" y="5553000"/>
            <a:ext cx="530280" cy="76212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76160" y="519444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52280" y="5541840"/>
            <a:ext cx="506520" cy="712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39680" y="59119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371600" y="4767120"/>
            <a:ext cx="476280" cy="79848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7840"/>
            <a:ext cx="469800" cy="931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9600"/>
            <a:ext cx="573120" cy="811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980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8920"/>
            <a:ext cx="646200" cy="9320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22800"/>
            <a:ext cx="645840" cy="9320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787320" y="4746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816480" y="6018120"/>
            <a:ext cx="54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9" descr="C:\Documents and Settings\Beth\Desktop\291718_3499100816440_1116569674_n.jpg"/>
          <p:cNvPicPr/>
          <p:nvPr/>
        </p:nvPicPr>
        <p:blipFill>
          <a:blip r:embed="rId12"/>
          <a:stretch/>
        </p:blipFill>
        <p:spPr>
          <a:xfrm>
            <a:off x="84240" y="1447920"/>
            <a:ext cx="16761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Beth</cp:lastModifiedBy>
  <dcterms:modified xsi:type="dcterms:W3CDTF">2012-12-01T16:41:52Z</dcterms:modified>
  <cp:revision>104</cp:revision>
  <dc:subject/>
  <dc:title>Profile</dc:title>
</cp:coreProperties>
</file>